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30D-2256-472C-A96A-50C46BBE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E2D-71F3-4123-BC7E-FE69AC2E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B7D-E7AD-4A3D-B5F0-433C6D68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EFC-DC29-4BA4-B214-B25D069E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7C53-B93C-4ACF-AFBE-0EB5D524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D56C-32BF-4AA3-AE16-9B12819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80B6-7C77-4FF3-AE5B-5383DA87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1FE-3226-47AD-8EFA-A3A89C4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6B07-3338-4C12-B6A9-BE01C79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E2E-CEAE-4E6D-8155-EADB7254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052E-2225-45B6-A370-2B5CB451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104-EAF5-4E75-A4E7-085D43F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B888-D34E-4B86-B830-167849C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579-F28E-4625-B4C4-A322C6C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855-23B2-4943-A9C4-67109B81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280-B017-4E9D-A00E-B1C845FC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2C9-C335-41E0-9816-502CCEE3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EA4-BEC5-4676-A6A9-C4262871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245-394B-43AE-B7C0-A80B081A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648-64D9-41C7-905D-1AE85AC2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CB5-C23A-4510-B9CA-300527A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7D9-E69D-47A1-B171-AFC163E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56F-3309-4508-9C0C-CAC522F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975-8507-48FB-8BA0-273D6D1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6C5-05F7-49B5-9C17-6D60EB3D3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EEB-30CF-45CC-8462-B99520BF6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coholic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er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ease (NAFLD)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are we toda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iam M. Out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Medicine Resid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ke Forest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Natural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tosis generally follows a benign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H with fibrosis has increased liver-related morbidity and mort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tosis can progress to NAS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ib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Natural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30864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rison et al.  The Natural History of NAFLD:  A Clinical Histopathological Study.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m J Gastro 200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98:9; 2042-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oni et al.  NAFLD:  A Spectrum of Clinical and Pathological Severity.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Gastroenterology  1999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116; 1413-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3352680"/>
          <a:ext cx="83059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352680"/>
                    <a:ext cx="8305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14400" y="106668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tosis generally follows a benign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H with fibrosis has increased liver-related morbidity and mort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tosis can progress to NAS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ib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Sympto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52280" y="6324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24852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nyal et al., 2003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Exam Fin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447920"/>
          <a:ext cx="82296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28600" y="62485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nyal et al., 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Laboratory Fin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elevation of ALT most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ted fasting glucose, triglycerides and depressed HDL with insulin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ted PT and low albumin with cirrh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rmal labs do not rule out NA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Imag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d Tom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tic Resonance Im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40384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urrent non-invasive modalitie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abl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o detect NASH with or without fib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2485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adeh et al.  The Utility of Radiological Imaging in NAFLD.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Gastroenter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2002; 123: 745-7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Histological Spectr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52280" y="914400"/>
            <a:ext cx="8762760" cy="5715000"/>
            <a:chOff x="152280" y="914400"/>
            <a:chExt cx="8762760" cy="5715000"/>
          </a:xfrm>
        </p:grpSpPr>
        <p:sp>
          <p:nvSpPr>
            <p:cNvPr id="164" name="Pyr1"/>
            <p:cNvSpPr/>
            <p:nvPr/>
          </p:nvSpPr>
          <p:spPr>
            <a:xfrm>
              <a:off x="3562200" y="914400"/>
              <a:ext cx="1964160" cy="1266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Pyr2"/>
            <p:cNvSpPr/>
            <p:nvPr/>
          </p:nvSpPr>
          <p:spPr>
            <a:xfrm>
              <a:off x="2424960" y="2181240"/>
              <a:ext cx="4228200" cy="1486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Pyr3"/>
            <p:cNvSpPr/>
            <p:nvPr/>
          </p:nvSpPr>
          <p:spPr>
            <a:xfrm>
              <a:off x="1299960" y="3667320"/>
              <a:ext cx="6477840" cy="1484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Pyr4"/>
            <p:cNvSpPr/>
            <p:nvPr/>
          </p:nvSpPr>
          <p:spPr>
            <a:xfrm>
              <a:off x="152280" y="5143680"/>
              <a:ext cx="8762760" cy="1485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388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rovesicular Stea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4191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bular Inflam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r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rrh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4724280"/>
            <a:ext cx="381240" cy="990720"/>
          </a:xfrm>
          <a:prstGeom prst="upArrow">
            <a:avLst>
              <a:gd name="adj1" fmla="val 50000"/>
              <a:gd name="adj2" fmla="val 64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057400"/>
            <a:ext cx="381240" cy="838080"/>
          </a:xfrm>
          <a:prstGeom prst="upArrow">
            <a:avLst>
              <a:gd name="adj1" fmla="val 50000"/>
              <a:gd name="adj2" fmla="val 54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3352680"/>
            <a:ext cx="381240" cy="838440"/>
          </a:xfrm>
          <a:prstGeom prst="upArrow">
            <a:avLst>
              <a:gd name="adj1" fmla="val 50000"/>
              <a:gd name="adj2" fmla="val 549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-360" y="228600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Prog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600200"/>
            <a:ext cx="380880" cy="3886200"/>
          </a:xfrm>
          <a:prstGeom prst="upArrow">
            <a:avLst>
              <a:gd name="adj1" fmla="val 50000"/>
              <a:gd name="adj2" fmla="val 2550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Steat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13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64008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Ibdah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NASH (without fibrosi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324480"/>
            <a:ext cx="121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Ibdah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NASH (with fibrosi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492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6400800"/>
            <a:ext cx="121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Ibdah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Presentation Ou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ease Continu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gen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Hist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Clinical Predi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invasive predictors of NAS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HAIR inde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N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T &gt; 40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ul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st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are 80% Sensitive, 89% Specific of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BAAT index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&gt;28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 &gt;50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T&gt;2x nl; incr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lyceri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has 100% Negative Predictive Value for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308640"/>
            <a:ext cx="8991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xon et al.  NAFLD—Predictors of NASH and Fibrosis in the Severely Obese.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Gastroenterology.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1; 121: 91-10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ziu et al.  Liver Fibrosis in Overweight Patients.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Gastroenterolo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  2000; 118: 1117-112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Clinical Predi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at risk to develop NASH with fibr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Age &gt; 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Obesity (BMI &gt; 31-3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Diabe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8680" y="6324480"/>
            <a:ext cx="756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o et al.  Independent predictors of liver fibrosis in patients with NASH.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Hepatology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2000; 30: 1356-136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35812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380988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lin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ty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5812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38862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pid perox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1523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oprotec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29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in Sensit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hyperlipide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2743200"/>
            <a:ext cx="21337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895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H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590920"/>
            <a:ext cx="2286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666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H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502920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et/Exer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4800600"/>
            <a:ext cx="533520" cy="838080"/>
          </a:xfrm>
          <a:custGeom>
            <a:avLst/>
            <a:gdLst>
              <a:gd name="textAreaLeft" fmla="*/ 177840 w 533520"/>
              <a:gd name="textAreaRight" fmla="*/ 457200 w 533520"/>
              <a:gd name="textAreaTop" fmla="*/ 49932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971"/>
                </a:moveTo>
                <a:lnTo>
                  <a:pt x="12871" y="15971"/>
                </a:lnTo>
                <a:lnTo>
                  <a:pt x="12871" y="7200"/>
                </a:lnTo>
                <a:lnTo>
                  <a:pt x="9771" y="7200"/>
                </a:lnTo>
                <a:lnTo>
                  <a:pt x="156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057400" y="4800600"/>
            <a:ext cx="533520" cy="838080"/>
          </a:xfrm>
          <a:custGeom>
            <a:avLst/>
            <a:gdLst>
              <a:gd name="textAreaLeft" fmla="*/ 177840 w 533520"/>
              <a:gd name="textAreaRight" fmla="*/ 457200 w 53352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219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oxid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20574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133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How to Treat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Weight Loss/Exerci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mer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stroenterology 19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39 obese patients, no primary liver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etrospective analysis after weight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Lower ALT seen in patients with &gt;10% weight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erson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urnal Hepatology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41 obese patients with biopsy-proven NAF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Low calorie diet (~400 kcal/d) x 8 months then re-biops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Most improved, but 24% with worse fibrosis/inflam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Histological worsening associated with rapid weight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Insulin Sensit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chesini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ncet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patients,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14 metformin (500 tid) x 4 months; 6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ALT &amp; OGTT improved in metfor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ir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stroenterology (in pr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 patients,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eceived metformin 20 mg/kg/d x 12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Improvement in ALT &amp; insulin sensi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No improvement in liver his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990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for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Insulin Sensit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schwander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urnal of Hepatolog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patients biopsy-proven NASH and elevated 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eceived rosiglitazone 4 mg bid x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Significant improvement of ALT and insulin sensi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uma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patology (in pr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patients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eceived 15 mg qd pioglitazone x 3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Significant improvement in 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914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azolidined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Antihyperlipidemic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urin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patology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patients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eceived clofibrate 2 g/d x 12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No significant improvement in ALT or his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aranoglu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urnal Hepatology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6 patients biopsy-proven NASH followed 4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23 received gemfibrozil, 23 no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74% patients in gemfibrozil group had lower 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30% patients no treatment group had lower 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Cytoprotect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urin et al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patology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24 patients with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Treated with UDCA 13-15 mg/kg/d x 12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63% had improved ALT and stea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No significant improvement in inflammation/fibr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dor et al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stroenterology (in pr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domized controlled double-blind stud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168 patients with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82 received UDCA and 86 no treatment x 12 month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No significant improvement in ALT or his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762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sodeoxychol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Antioxid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egawa et al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iment Pharmacol Ther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 patients, 10 steatosis and 12 biopsy-proven 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6 months standard diet followed by Vitamin E 100 IU tid x 12 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Steatosis group showed improvement in ALT after di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NASH group showed improvement in ALT after Vitamin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40% NASH patients had histological improvement after Vitamin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gelmas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patolog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16 patients with biopsy-proven NASH followed for 3 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9 received diet/exercise and Vitamin E 800 IU q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7 diet/exercise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Vitamin E conferred no significant improvement in AL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9907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838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tamin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Management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dual, sustained weight loss hallmark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weight loss potentially detri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mfibrozil, Vitamin E and insulin sensitizers require further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fibrate and UDCA do not appear useful in NASH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efining NAFL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o-pathologic syndrome encompassing a wide range of fatty liver disease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bs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significant alcohol intak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 drinks or fewer daily) and other common causes of stea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Limitations of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randomized t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study pop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follow-up peri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biops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FLD affects up to 15% of the US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tosis is relatively benign, but NASH has significant morbidity/mortalit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in resistance and cellular damage are the key pathogenetic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tained gradual weight loss and exercise are hallmark therap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in sensitizers, cytoprotectants, antioxidants may play role in future for those who fail conservative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82880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Jamal Ibd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and Nedra Out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zabeth Gar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Internal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on of Gastroenter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elman et al. reported association of obesity with fatty liver in 1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umber of investigators noted liver failure in obese patients undergoing intestinal bypass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dwig et al. coined “non-alcoholic steatohepatitis” in 198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Spectrum of Dise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tohepatitis (NASH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H with Fibro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rh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1523880"/>
            <a:ext cx="457200" cy="4800600"/>
          </a:xfrm>
          <a:custGeom>
            <a:avLst/>
            <a:gdLst>
              <a:gd name="textAreaLeft" fmla="*/ 0 w 457200"/>
              <a:gd name="textAreaRight" fmla="*/ 320760 w 457200"/>
              <a:gd name="textAreaTop" fmla="*/ 199800 h 4800600"/>
              <a:gd name="textAreaBottom" fmla="*/ 460080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Why Study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alence of NAFLD 13-18% and that of NASH specifically 2-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FLD is a disease of all sexes, ethnicities, and age groups (peak 40-4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FLD is the leading cause of cryptogenic cirrh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FLD—Risk Fa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914400"/>
          <a:ext cx="8534160" cy="57164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7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 Metabolic Disord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Obesity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Diabetes Mellitus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Hypertriglyceridemi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renteral Nutr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rg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junoileal Byp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ensive Small Bowel Lo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c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ticosteroids; Estroge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iodar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trexate; Tamoxif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ltiazem; Nifedip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cupational Exposu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c Sol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0" y="914400"/>
            <a:ext cx="4267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914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447920"/>
            <a:ext cx="42670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447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81080"/>
            <a:ext cx="4267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1981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riglycerid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Demograph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676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0800" y="6400800"/>
            <a:ext cx="66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u et al.. Nonalcoholic Fatty Liver Disease.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Reviews in Gastroenterological Disorders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2;  2 (1):11-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3581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80988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lin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ty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pid perox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FLD—Pathogen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124080"/>
            <a:ext cx="2057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438280"/>
            <a:ext cx="2514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200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H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H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5:10:17Z</dcterms:created>
  <dc:creator>Bill Outlaw</dc:creator>
  <dc:description/>
  <dc:language>en-US</dc:language>
  <cp:lastModifiedBy>Bill Outlaw</cp:lastModifiedBy>
  <dcterms:modified xsi:type="dcterms:W3CDTF">2003-11-30T19:48:00Z</dcterms:modified>
  <cp:revision>203</cp:revision>
  <dc:subject/>
  <dc:title>Nonalcoholic Fatty Liver Disease: Where are we two decades later?</dc:title>
</cp:coreProperties>
</file>